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png" ContentType="image/png"/>
  <Override PartName="/ppt/media/image4.jpeg" ContentType="image/jpeg"/>
  <Override PartName="/ppt/media/image10.wmf" ContentType="image/x-wmf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769-20EE-4DD9-84F1-0A8CB23E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35A-8B38-4B72-9410-C70F47F6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73D-CE43-47C1-BE65-6E5FC6B5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C02-7A5C-4268-BC2B-CB8E2A76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1598-F2F1-460E-A678-A547E0BB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37F1-CD6A-420D-B5D7-FBCE0461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104A-0FA0-48D9-A69B-4CB1B847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4022-6D7D-45A6-8EE8-7FFCD62D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3E03-8543-48D2-9535-C823EA08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D956-3848-4C2B-B217-99BF04F9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710C-24B1-4BFA-8864-F65B8FBB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E83-5264-4604-B9C7-D9668E10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3850-26D2-4EC8-8DDD-DF5FEE85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E364-6964-4B9A-8041-47ABDB41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7806-6F1C-4127-9C4D-8BA26B04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59E2-2FA4-4017-983F-AC763F9D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C0E9-0CFF-4419-B235-6CAA8E53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E9CC-50E4-4590-84CE-9E4020F7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25D02-76DA-41E8-929A-D76A4BB3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90D74-ADE5-40C4-9955-334AA882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F8391-EFE3-41DC-9BC9-89D090AF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E42F1-FA99-47ED-B6F6-C8C19979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4AE-5C2A-44E4-B2DE-60127F44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68167-B715-4E57-BB58-0A2F236A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869AF-397D-4EE5-BFFD-0016972A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176AE-4204-4B29-BD35-A9CA6591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41472-FC8C-44E4-A49F-F1742097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5EE10-1BE7-4D30-8987-E40DB08C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31A76-907D-4A6C-ADEF-DBA66A5B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D32EC-BCB1-44CD-BE49-50E22A3C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99D64-6485-435F-AF90-8D1DC168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300AB-A066-498D-A59C-6F9E5CEF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E666E-E977-4A41-A9FB-365117C8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ACA-F1B0-47C0-B750-D34A40B1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DE8C5-7C82-4D2B-98C0-BA40ECD0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53939-2A32-4FD4-87B0-0FC6F910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CEFAB-819B-438E-9E35-5A06B3F5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6633A-2430-473D-A6E3-2E2C7975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40ABF-9248-4E3A-ABEF-7AC58C1C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1DB73-4761-432F-9D03-B452972E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AED78-45EC-41ED-A966-FD2EE0D6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D1E98-EBF2-458C-BCB2-7E42CCF9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80BD4-B083-4BFA-BA57-17636735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ECD35-294A-4DE8-BB6D-975020D1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B1B-16D5-4E15-8A27-72DD4C42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B16DE-71C3-4401-9D6C-D3BB4550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A3BFF-3D8F-4D7D-9C5A-DCECFDD3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3D2E7-BC30-44FD-8106-5D03F6C8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C63B8-804A-49A6-B255-1EF34FC3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5A76C-E898-4339-B9E7-66DE03CD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BC8B0-96D2-4ECB-9009-5724463D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67277-AA8B-4DD0-AFC2-DDD3B725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D485C-12E6-491E-87C3-331C2B66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C8BA2-A6C5-49C4-AABD-4BA2A6C4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1461C-C076-4A54-8CF9-B2056566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C04-AE99-4750-AD70-A2321DA1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E9F43-E69F-484D-96F3-9FFBE7B6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A6F-66B4-4805-9CF3-F89F4BAA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84C-42EB-4E39-97D7-D77B0AB0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BA7-C2CD-49A1-B557-7569C0DF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D807-B3EB-4FA8-8726-3030D27BB412}" type="slidenum">
              <a:rPr b="0" lang="en-C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665D-7F76-4C72-909F-6268CA383DCE}" type="slidenum">
              <a:rPr b="0" lang="en-CA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C363-EA41-4B83-8151-FDDE4FA905F0}" type="slidenum">
              <a:rPr b="0" lang="en-C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D024-F914-4029-AD01-6FAA932E23A0}" type="slidenum">
              <a:rPr b="0" lang="en-CA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18FB-6089-4DD0-BD5E-A62948176DA6}" type="slidenum">
              <a:rPr b="0" lang="en-C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3" descr=""/>
          <p:cNvPicPr/>
          <p:nvPr/>
        </p:nvPicPr>
        <p:blipFill>
          <a:blip r:embed="rId1"/>
          <a:stretch/>
        </p:blipFill>
        <p:spPr>
          <a:xfrm>
            <a:off x="3425760" y="530280"/>
            <a:ext cx="54072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Groups 2 and 3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4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1 – Open PowerPoint that is provided by Teacher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y Animal Template for Lesson Plan.pp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2 – Add your name to the text box at the bottom of the slid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3 – Change the WordArt title to your animal’s name and insert a picture of your anima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4 – Scroll down to the next slide, Habitat and insert a picture of your animal in its habita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5 – Click on textbox to  write a description about your animal’s habit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6 – Scroll down to the next slide and repeat the steps abov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7 – Complete the rest of the slides using the steps abov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8 – Save and Prin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ep 9 – Present to the clas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tudents will be assessed on their ability to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nage time when doing their researc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vide accurate information from appropriate websites that pertains to their anim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clude a well written description using complete sentences and a picture from the Internet and/or Clip Art on each slid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sent their PowerPoint in a clear and easy to understand manner to their classmat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glish Language Arts Curriculum, Elementary K-3, New Brunswick Department of Education Curriculum Development Branch, New Brunswick, 199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oblyer, M.D. and Doering, H. Aaron., Integrating Educational Technology into Teaching,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Edition, 2010 Pearson Education Canad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three lesson plans we chose came from the website educationworld.co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esson One – The Bird Can Blog: Online Writing with a Twist. (Grades 3-5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www.educationworld.com/a_tech/techlp/techlp055.shtm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esson Two - Scriptwriting with a Wiki (Grades 6-8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www.educationworld.com/a_tech/techlp/techlp054.shtm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esson Three – A Favorite Poem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Grades 9-12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www.educationworld.com/a_tech/techlp/techlp032.shtm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5235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sson 1 – The Bird Can Blo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Object 4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2577960" cy="761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susan.marshall\AppData\Local\Microsoft\Windows\Temporary Internet Files\Content.IE5\EQT51C70\MP900446581[1].jpg"/>
          <p:cNvPicPr/>
          <p:nvPr/>
        </p:nvPicPr>
        <p:blipFill>
          <a:blip r:embed="rId3"/>
          <a:stretch/>
        </p:blipFill>
        <p:spPr>
          <a:xfrm>
            <a:off x="2362320" y="3809880"/>
            <a:ext cx="3078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sson 2 – Scriptwriting with a Wik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Object 6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1968480" cy="83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:\Users\susan.marshall\AppData\Local\Microsoft\Windows\Temporary Internet Files\Content.IE5\D8SU6W34\MC900290369[1].wmf"/>
          <p:cNvPicPr/>
          <p:nvPr/>
        </p:nvPicPr>
        <p:blipFill>
          <a:blip r:embed="rId2"/>
          <a:stretch/>
        </p:blipFill>
        <p:spPr>
          <a:xfrm>
            <a:off x="2514600" y="3657600"/>
            <a:ext cx="28224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sson 3 – A Favorite Po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Object 5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2767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C:\Users\susan.marshall\AppData\Local\Microsoft\Windows\Temporary Internet Files\Content.IE5\FSHE5FBD\MC900282290[1].wmf"/>
          <p:cNvPicPr/>
          <p:nvPr/>
        </p:nvPicPr>
        <p:blipFill>
          <a:blip r:embed="rId2"/>
          <a:stretch/>
        </p:blipFill>
        <p:spPr>
          <a:xfrm>
            <a:off x="3124080" y="4114800"/>
            <a:ext cx="18972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Animal Report PowerPoint Present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rief Descrip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udents will explore and locate specific information pertaining  to animals using the internet as their search tool. They will then incorporate this into a PowerPoint Presentation to share with their peer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rade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– 3-5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urat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– One Mont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761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avigate the internet by using a variety of search engines to gather information about the animal of their choi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ill use the PowerPoint template given to them to report their findings about their anim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ill download pictures from the internet to attach to their Present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terials Need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student access to word processing and interne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Smart Board or LCD projector for the teacher to u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ETS for Teacher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andard 1 – Facilitate and Inspire Student Learning and Creativit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andard 2 – Design and Develop Digital Age Learning Experiences and Assessmen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andard 3 – Model Digital-Age Work and Learn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andard 4 – Promote and Model Digital Citizenship and Responsibilit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ETS for Students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1 – Creativity and Innov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2 – Communication and Collabor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3 – Research and Information Fluenc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6 – Technology Operations and Concep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4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rebuchet MS"/>
              </a:rPr>
              <a:t>(GCO8) Students will be expected to use writing and other forms of representation to explore, clarify, and reflect on their thoughts, feelings, experiences and learnings; and to use their imagination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rebuchet MS"/>
              </a:rPr>
              <a:t>(GCO9)Students will be able to create texts collaboratively and independently, using a variety of forms for a range of audiences and purpose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(GCO10) Students will be expected to use a range of strategies to develop effective writing and media products to enhance their clarity, precision, and effectivenes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7:09:14Z</dcterms:created>
  <dc:creator>ladmin</dc:creator>
  <dc:description/>
  <dc:language>en-US</dc:language>
  <cp:lastModifiedBy>Mike</cp:lastModifiedBy>
  <dcterms:modified xsi:type="dcterms:W3CDTF">2012-07-05T21:07:24Z</dcterms:modified>
  <cp:revision>27</cp:revision>
  <dc:subject/>
  <dc:title>Chapter 4 – Activity 2 &amp; 3</dc:title>
</cp:coreProperties>
</file>